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7BC-7CC0-4479-9C7E-9CD1C952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C7E-3340-4591-8D98-C04832E1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48C-F277-4794-BB20-1868D5D4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875-9DA9-4F8C-A0AF-823065B3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A96-5CCE-439E-AB8C-D9B86833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5D3-3DAE-4CB0-9685-F247FE29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281-B0F6-4918-B0BB-03E9AA69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020-3AE3-40AD-BD70-079138CB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788-9D46-4C85-BE0E-972B252A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E4F-F309-495C-A687-68ACBB2B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9CD-668F-4622-B816-C41C9AC3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0CA-719E-4DBC-AC7E-5AC4D798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A51E-28CF-4134-912D-1272CE94CBB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37" t="0" r="12545" b="573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77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ojet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57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tude d’une éolie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40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jet L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1284480" cy="739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956720" y="5950080"/>
            <a:ext cx="107928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2562" r="0" b="16226"/>
          <a:stretch/>
        </p:blipFill>
        <p:spPr>
          <a:xfrm>
            <a:off x="3708360" y="1773360"/>
            <a:ext cx="5256360" cy="287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255760" y="692280"/>
            <a:ext cx="1943280" cy="1990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INE CINE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22301" b="35025"/>
          <a:stretch/>
        </p:blipFill>
        <p:spPr>
          <a:xfrm>
            <a:off x="2268360" y="1628640"/>
            <a:ext cx="6875640" cy="431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ELISATION 3D : SOLID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57360"/>
            <a:ext cx="9144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ITION DU BES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692280"/>
            <a:ext cx="687564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UA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énuries de pétrol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ût du carbura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échauffement climatiqu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éveloppement des énergies renouvelables et en particulier de la technologie éolien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vantage :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ource d’énergie inépuisable permettant la transformation de l’énergie mécanique en énergie électr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692280"/>
            <a:ext cx="68756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imensionnement de l’éolienne pa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L’étude du beso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La définition de sa puiss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Le calcul de sa ta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Modélisation 3D de l’éolienne et en particulier de la partie transformation et transmission de puissance (Solid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UDE DU BES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692280"/>
            <a:ext cx="687564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illage de 300 habitants situé dans les Monts d’Arrée, lieu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eu rentable pour être connecté au rés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nteux : temps de fonctionnement par an éle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écessité de défini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 consommation d’électricité par an et par hab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 vitesse moyenne du vent sur le lieu d’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 temps de fonctionnement sur un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UL ENERGETIQUE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692280"/>
            <a:ext cx="687564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étermination de la consommation annuel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Nombre d’habitants : 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Consommation : 2 MWh/an/h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600 MWh/an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(quantité d’énergie à produire par l’éolien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Temps de fonctionnement :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2000h/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uissance de l’éolienne : 0,3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284640"/>
            <a:ext cx="687564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Calcul de la puissance du v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Vitesse moyenne du vent :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7,5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Formu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Puissance transmise à l’éolienne (Betz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UL ENERGETIQU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340000" y="836640"/>
            <a:ext cx="6624720" cy="2231640"/>
            <a:chOff x="2340000" y="836640"/>
            <a:chExt cx="6624720" cy="2231640"/>
          </a:xfrm>
        </p:grpSpPr>
        <p:sp>
          <p:nvSpPr>
            <p:cNvPr id="79" name=""/>
            <p:cNvSpPr/>
            <p:nvPr/>
          </p:nvSpPr>
          <p:spPr>
            <a:xfrm>
              <a:off x="7813080" y="1407240"/>
              <a:ext cx="10890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2340000" y="836640"/>
              <a:ext cx="6624720" cy="2231640"/>
              <a:chOff x="2340000" y="836640"/>
              <a:chExt cx="6624720" cy="2231640"/>
            </a:xfrm>
          </p:grpSpPr>
          <p:sp>
            <p:nvSpPr>
              <p:cNvPr id="81" name=""/>
              <p:cNvSpPr/>
              <p:nvPr/>
            </p:nvSpPr>
            <p:spPr>
              <a:xfrm>
                <a:off x="3058920" y="1131480"/>
                <a:ext cx="378360" cy="1936800"/>
              </a:xfrm>
              <a:custGeom>
                <a:avLst/>
                <a:gdLst/>
                <a:ahLst/>
                <a:rect l="l" t="t" r="r" b="b"/>
                <a:pathLst>
                  <a:path w="997" h="1833">
                    <a:moveTo>
                      <a:pt x="475" y="0"/>
                    </a:moveTo>
                    <a:cubicBezTo>
                      <a:pt x="352" y="0"/>
                      <a:pt x="0" y="352"/>
                      <a:pt x="76" y="570"/>
                    </a:cubicBezTo>
                    <a:cubicBezTo>
                      <a:pt x="152" y="788"/>
                      <a:pt x="865" y="1102"/>
                      <a:pt x="931" y="1311"/>
                    </a:cubicBezTo>
                    <a:cubicBezTo>
                      <a:pt x="997" y="1520"/>
                      <a:pt x="617" y="1815"/>
                      <a:pt x="475" y="1824"/>
                    </a:cubicBezTo>
                    <a:cubicBezTo>
                      <a:pt x="333" y="1833"/>
                      <a:pt x="19" y="1577"/>
                      <a:pt x="76" y="1368"/>
                    </a:cubicBezTo>
                    <a:cubicBezTo>
                      <a:pt x="133" y="1159"/>
                      <a:pt x="750" y="788"/>
                      <a:pt x="817" y="570"/>
                    </a:cubicBezTo>
                    <a:cubicBezTo>
                      <a:pt x="884" y="352"/>
                      <a:pt x="598" y="0"/>
                      <a:pt x="47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46480" y="2123640"/>
                <a:ext cx="205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16120" y="1832040"/>
                <a:ext cx="843480" cy="57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Multipli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cateu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53840" y="2123640"/>
                <a:ext cx="182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89840" y="1819440"/>
                <a:ext cx="843480" cy="57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Géné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ratr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78240" y="2016000"/>
                <a:ext cx="72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11800" y="2016000"/>
                <a:ext cx="72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759480" y="1686240"/>
                <a:ext cx="10890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(ω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, 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87280" y="1648080"/>
                <a:ext cx="10886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(ω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, 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07760" y="2453400"/>
                <a:ext cx="10886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875720" y="2459880"/>
                <a:ext cx="10890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02080" y="133128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90560" y="15847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79400" y="18385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585160" y="207324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90560" y="232668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79400" y="256140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79400" y="28087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340000" y="836640"/>
                <a:ext cx="108900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vent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(v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268360" y="69228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héma de princ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4365720"/>
            <a:ext cx="331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Arial"/>
              </a:rPr>
              <a:t>vent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= 0,5.π.r</a:t>
            </a:r>
            <a:r>
              <a:rPr b="0" lang="fr-FR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.v</a:t>
            </a:r>
            <a:r>
              <a:rPr b="0" lang="fr-FR" sz="24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.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5877000"/>
            <a:ext cx="43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Arial"/>
              </a:rPr>
              <a:t>éolienne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= (16/27).P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Arial"/>
              </a:rPr>
              <a:t>vent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= P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MENS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3284640"/>
            <a:ext cx="6480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issance à la sorti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lcul du ray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4005360"/>
            <a:ext cx="2592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η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η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340000" y="836640"/>
            <a:ext cx="6624720" cy="2231640"/>
            <a:chOff x="2340000" y="836640"/>
            <a:chExt cx="6624720" cy="2231640"/>
          </a:xfrm>
        </p:grpSpPr>
        <p:sp>
          <p:nvSpPr>
            <p:cNvPr id="127" name=""/>
            <p:cNvSpPr/>
            <p:nvPr/>
          </p:nvSpPr>
          <p:spPr>
            <a:xfrm>
              <a:off x="7813080" y="1407240"/>
              <a:ext cx="10890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340000" y="836640"/>
              <a:ext cx="6624720" cy="2231640"/>
              <a:chOff x="2340000" y="836640"/>
              <a:chExt cx="6624720" cy="2231640"/>
            </a:xfrm>
          </p:grpSpPr>
          <p:sp>
            <p:nvSpPr>
              <p:cNvPr id="129" name=""/>
              <p:cNvSpPr/>
              <p:nvPr/>
            </p:nvSpPr>
            <p:spPr>
              <a:xfrm>
                <a:off x="3058920" y="1131480"/>
                <a:ext cx="378360" cy="1936800"/>
              </a:xfrm>
              <a:custGeom>
                <a:avLst/>
                <a:gdLst/>
                <a:ahLst/>
                <a:rect l="l" t="t" r="r" b="b"/>
                <a:pathLst>
                  <a:path w="997" h="1833">
                    <a:moveTo>
                      <a:pt x="475" y="0"/>
                    </a:moveTo>
                    <a:cubicBezTo>
                      <a:pt x="352" y="0"/>
                      <a:pt x="0" y="352"/>
                      <a:pt x="76" y="570"/>
                    </a:cubicBezTo>
                    <a:cubicBezTo>
                      <a:pt x="152" y="788"/>
                      <a:pt x="865" y="1102"/>
                      <a:pt x="931" y="1311"/>
                    </a:cubicBezTo>
                    <a:cubicBezTo>
                      <a:pt x="997" y="1520"/>
                      <a:pt x="617" y="1815"/>
                      <a:pt x="475" y="1824"/>
                    </a:cubicBezTo>
                    <a:cubicBezTo>
                      <a:pt x="333" y="1833"/>
                      <a:pt x="19" y="1577"/>
                      <a:pt x="76" y="1368"/>
                    </a:cubicBezTo>
                    <a:cubicBezTo>
                      <a:pt x="133" y="1159"/>
                      <a:pt x="750" y="788"/>
                      <a:pt x="817" y="570"/>
                    </a:cubicBezTo>
                    <a:cubicBezTo>
                      <a:pt x="884" y="352"/>
                      <a:pt x="598" y="0"/>
                      <a:pt x="47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46480" y="2123640"/>
                <a:ext cx="205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16120" y="1832040"/>
                <a:ext cx="843480" cy="57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Multipli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cateu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53840" y="2123640"/>
                <a:ext cx="182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89840" y="1819440"/>
                <a:ext cx="843480" cy="57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Géné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ratr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78240" y="2016000"/>
                <a:ext cx="72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11800" y="2016000"/>
                <a:ext cx="72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59480" y="1686240"/>
                <a:ext cx="10890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(ω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, 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587280" y="1648080"/>
                <a:ext cx="10886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(ω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, 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07760" y="2453400"/>
                <a:ext cx="10886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75720" y="2459880"/>
                <a:ext cx="10890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02080" y="133128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90560" y="15847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579400" y="18385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85160" y="207324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90560" y="232668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79400" y="256140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79400" y="28087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340000" y="836640"/>
                <a:ext cx="108900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vent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(v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8" name="" descr=""/>
          <p:cNvPicPr/>
          <p:nvPr/>
        </p:nvPicPr>
        <p:blipFill>
          <a:blip r:embed="rId1"/>
          <a:srcRect l="0" t="0" r="36495" b="76398"/>
          <a:stretch/>
        </p:blipFill>
        <p:spPr>
          <a:xfrm>
            <a:off x="3924360" y="5734080"/>
            <a:ext cx="3097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98100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équence de rotation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in épicycloïdal = Multiplic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INE CINE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286000" y="2349360"/>
            <a:ext cx="6858000" cy="3527280"/>
            <a:chOff x="2286000" y="2349360"/>
            <a:chExt cx="6858000" cy="35272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0" t="5340" r="0" b="26085"/>
            <a:stretch/>
          </p:blipFill>
          <p:spPr>
            <a:xfrm>
              <a:off x="2286000" y="2349360"/>
              <a:ext cx="685800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646360" y="4221000"/>
              <a:ext cx="863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62360" y="4436640"/>
              <a:ext cx="863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58000" y="4221000"/>
              <a:ext cx="1152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2720" y="3573360"/>
              <a:ext cx="115236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73280" y="3573360"/>
              <a:ext cx="115272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47:49Z</dcterms:created>
  <dc:creator>CRI</dc:creator>
  <dc:description/>
  <dc:language>en-US</dc:language>
  <cp:lastModifiedBy> SCHNEIDER</cp:lastModifiedBy>
  <dcterms:modified xsi:type="dcterms:W3CDTF">2007-11-03T11:42:30Z</dcterms:modified>
  <cp:revision>30</cp:revision>
  <dc:subject/>
  <dc:title>Diapositive 1</dc:title>
</cp:coreProperties>
</file>